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1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762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1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762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788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788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792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674200" y="6500880"/>
            <a:ext cx="46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4D08-63AA-4A1C-BA19-3A4484A8D1B3}" type="slidenum"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89856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84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1440" y="1866960"/>
            <a:ext cx="84582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3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2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STEP Physical File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to 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4181400"/>
            <a:ext cx="8572320" cy="19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rm of the product data in the exchange structure is specified by using a mapping from the EXPRESS language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2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3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48120" y="2903400"/>
            <a:ext cx="3124080" cy="1105200"/>
          </a:xfrm>
          <a:custGeom>
            <a:avLst/>
            <a:gdLst>
              <a:gd name="textAreaLeft" fmla="*/ 488160 w 3124080"/>
              <a:gd name="textAreaRight" fmla="*/ 2733840 w 3124080"/>
              <a:gd name="textAreaTop" fmla="*/ 276120 h 1105200"/>
              <a:gd name="textAreaBottom" fmla="*/ 829080 h 1105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8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2520" y="295128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LPM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32920" y="2951280"/>
            <a:ext cx="158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Pop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CI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xchang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EXPRESS construc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Part 21 defines mappings into the exchange structure for the following EXPRESS construct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IMPLE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LECT Data 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PERTYPE-SUBTYP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nmapped Construc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following EXPRESS constructs do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map into the exchange structure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ERE 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VERSE Attribu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CHEMA Decl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ma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 &amp; Entity Types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ach entity instance shall be represented at most once in the data section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tinct entity instances shall have distinct entity instance names (i.e. the #number)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entity instances need not be ordered in the exchange structu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instance may be referenced before its name occurs as an identifier in the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-3772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entity data type is mapped by placing the #number in the place of the attribute valu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5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#123 = ENTITY_NAME (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values of attribute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tities: 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dget_material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material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TRING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#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MATERIAL (‘steel’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Optional val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ere an Optional attribute has not been given a value, it shall be encoded as a dollar sign "$"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Boole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BOOLEAN shall be treated as a pre-defined enumerated data type with a value encoded as "T" (for TRUE) and "F" (for FALSE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ogic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EXPRESS element of LOGICAL shall be treated as a pre-defined enumerated data type with a value encoded as "T" (for TRUE), "F" (for FALSE) and "U" (for UNKNOWN)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imple data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PTIONAL RE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OOLEA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 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OGICAL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1 = WIDGET ($, .T., .F.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85960" y="210996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48520" y="3032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9" idx="2"/>
            <a:endCxn id="152" idx="2"/>
          </p:cNvCxnSpPr>
          <p:nvPr/>
        </p:nvCxnSpPr>
        <p:spPr>
          <a:xfrm flipH="1" rot="16200000">
            <a:off x="6315120" y="2079360"/>
            <a:ext cx="317880" cy="12578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537600" y="2496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480" y="1965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9" idx="1"/>
          </p:cNvCxnSpPr>
          <p:nvPr/>
        </p:nvCxnSpPr>
        <p:spPr>
          <a:xfrm flipH="1" flipV="1" rot="10800000">
            <a:off x="5355000" y="2322000"/>
            <a:ext cx="3351960" cy="109800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4095720" y="236232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8" idx="2"/>
          </p:cNvCxnSpPr>
          <p:nvPr/>
        </p:nvCxnSpPr>
        <p:spPr>
          <a:xfrm>
            <a:off x="6332040" y="2322000"/>
            <a:ext cx="135036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59" name=""/>
          <p:cNvSpPr/>
          <p:nvPr/>
        </p:nvSpPr>
        <p:spPr>
          <a:xfrm>
            <a:off x="5950080" y="236232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77040" y="26416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8669160" y="2641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16840" y="27907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97760" y="3343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96080" y="2141280"/>
            <a:ext cx="1123920" cy="376200"/>
            <a:chOff x="7696080" y="2141280"/>
            <a:chExt cx="1123920" cy="376200"/>
          </a:xfrm>
        </p:grpSpPr>
        <p:sp>
          <p:nvSpPr>
            <p:cNvPr id="158" name=""/>
            <p:cNvSpPr/>
            <p:nvPr/>
          </p:nvSpPr>
          <p:spPr>
            <a:xfrm>
              <a:off x="7696080" y="22575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75360" y="214164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8692920" y="214128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277040" y="320508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69160" y="32047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EXPRESS elements of LIST, BAG, SET or an ARRAY shall be mapped to the exchange structure as a list data typ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n entire list is optional and does not exist, the list shall be encoded by a dollar sign “$”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list is empty, the list shall be encoded as a lef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 followed by a right parenthesis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Aggreg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1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LIS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0:6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2: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SE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?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3: OPTIONAL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RRA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[1:3] OF INTEGER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data section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4 = WIDGET((), (1,2,4), $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98280" y="39988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61320" y="4921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3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2" idx="2"/>
            <a:endCxn id="175" idx="2"/>
          </p:cNvCxnSpPr>
          <p:nvPr/>
        </p:nvCxnSpPr>
        <p:spPr>
          <a:xfrm flipH="1" rot="16200000">
            <a:off x="5951520" y="3544560"/>
            <a:ext cx="335520" cy="2123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5399280" y="44211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2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22040" y="38559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tribute1 L[0: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2" idx="1"/>
          </p:cNvCxnSpPr>
          <p:nvPr/>
        </p:nvCxnSpPr>
        <p:spPr>
          <a:xfrm flipH="1" flipV="1" rot="10800000">
            <a:off x="4567680" y="4210560"/>
            <a:ext cx="3351960" cy="1097640"/>
          </a:xfrm>
          <a:prstGeom prst="bentConnector3">
            <a:avLst>
              <a:gd name="adj1" fmla="val -63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79" name=""/>
          <p:cNvCxnSpPr>
            <a:stCxn id="172" idx="3"/>
            <a:endCxn id="180" idx="2"/>
          </p:cNvCxnSpPr>
          <p:nvPr/>
        </p:nvCxnSpPr>
        <p:spPr>
          <a:xfrm>
            <a:off x="5544720" y="4211280"/>
            <a:ext cx="1632600" cy="118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81" name=""/>
          <p:cNvSpPr/>
          <p:nvPr/>
        </p:nvSpPr>
        <p:spPr>
          <a:xfrm>
            <a:off x="5549760" y="426888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88280" y="456552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747280" y="45651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94600" y="46972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9000" y="5249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191360" y="4029120"/>
            <a:ext cx="1722240" cy="377640"/>
            <a:chOff x="7191360" y="4029120"/>
            <a:chExt cx="1722240" cy="377640"/>
          </a:xfrm>
        </p:grpSpPr>
        <p:sp>
          <p:nvSpPr>
            <p:cNvPr id="180" name=""/>
            <p:cNvSpPr/>
            <p:nvPr/>
          </p:nvSpPr>
          <p:spPr>
            <a:xfrm>
              <a:off x="7191360" y="414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2320" y="4029120"/>
              <a:ext cx="15112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8751960" y="403056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7389720" y="5111640"/>
            <a:ext cx="15256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745480" y="511128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ctual value in an instance of the ENUMERATION shall be one of the enumerated values in the EXPRESS schema, in capital letters and delimited by full stop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93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96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9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2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05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Enumeration 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YPE primary_colour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NUMERATION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OF (red, green, blue)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widget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_colour : primary_colour;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#2 = WIDGET(.RED.);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960" y="345924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62160" y="3292560"/>
            <a:ext cx="105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_col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72320" y="3424320"/>
            <a:ext cx="2073960" cy="374400"/>
            <a:chOff x="6772320" y="3424320"/>
            <a:chExt cx="2073960" cy="374400"/>
          </a:xfrm>
        </p:grpSpPr>
        <p:sp>
          <p:nvSpPr>
            <p:cNvPr id="197" name=""/>
            <p:cNvSpPr/>
            <p:nvPr/>
          </p:nvSpPr>
          <p:spPr>
            <a:xfrm>
              <a:off x="6772320" y="3576600"/>
              <a:ext cx="18000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3427560"/>
              <a:ext cx="18885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imary_col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8730360" y="34243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0" name=""/>
          <p:cNvCxnSpPr>
            <a:stCxn id="194" idx="3"/>
            <a:endCxn id="197" idx="2"/>
          </p:cNvCxnSpPr>
          <p:nvPr/>
        </p:nvCxnSpPr>
        <p:spPr>
          <a:xfrm flipV="1">
            <a:off x="5711760" y="3652200"/>
            <a:ext cx="104688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SELECT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fines a list of data types,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lled the 'select-list'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ose values are valid instances of select data type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nclude all of the subtype entities of supertyp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instance of a select data type shall be a value of a least one of the data types in the select-list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data type in the select list is itself a select data type, then the encoding rules are applied recursivel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instances of entity data types, simple data types and enumeration data types can actually be encod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34720" y="1271520"/>
            <a:ext cx="8763480" cy="4894920"/>
            <a:chOff x="234720" y="1271520"/>
            <a:chExt cx="8763480" cy="4894920"/>
          </a:xfrm>
        </p:grpSpPr>
        <p:sp>
          <p:nvSpPr>
            <p:cNvPr id="205" name=""/>
            <p:cNvSpPr/>
            <p:nvPr/>
          </p:nvSpPr>
          <p:spPr>
            <a:xfrm>
              <a:off x="4843800" y="1440000"/>
              <a:ext cx="23187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easure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240600" y="2406600"/>
              <a:ext cx="690480" cy="593640"/>
              <a:chOff x="6240600" y="2406600"/>
              <a:chExt cx="690480" cy="593640"/>
            </a:xfrm>
          </p:grpSpPr>
          <p:sp>
            <p:nvSpPr>
              <p:cNvPr id="207" name=""/>
              <p:cNvSpPr/>
              <p:nvPr/>
            </p:nvSpPr>
            <p:spPr>
              <a:xfrm>
                <a:off x="6240600" y="2629080"/>
                <a:ext cx="690480" cy="368280"/>
              </a:xfrm>
              <a:prstGeom prst="rect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uni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91160" y="2406600"/>
                <a:ext cx="18684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350040" y="2611440"/>
                <a:ext cx="0" cy="388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0" name=""/>
            <p:cNvCxnSpPr>
              <a:stCxn id="211" idx="2"/>
              <a:endCxn id="208" idx="0"/>
            </p:cNvCxnSpPr>
            <p:nvPr/>
          </p:nvCxnSpPr>
          <p:spPr>
            <a:xfrm>
              <a:off x="6584760" y="1879560"/>
              <a:ext cx="108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12" name=""/>
            <p:cNvGrpSpPr/>
            <p:nvPr/>
          </p:nvGrpSpPr>
          <p:grpSpPr>
            <a:xfrm>
              <a:off x="7205760" y="3168720"/>
              <a:ext cx="1792440" cy="398880"/>
              <a:chOff x="7205760" y="3168720"/>
              <a:chExt cx="1792440" cy="398880"/>
            </a:xfrm>
          </p:grpSpPr>
          <p:sp>
            <p:nvSpPr>
              <p:cNvPr id="213" name=""/>
              <p:cNvSpPr/>
              <p:nvPr/>
            </p:nvSpPr>
            <p:spPr>
              <a:xfrm>
                <a:off x="7428960" y="3168720"/>
                <a:ext cx="156924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deriv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05760" y="3270240"/>
                <a:ext cx="187560" cy="1872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232760" y="3759120"/>
              <a:ext cx="1734840" cy="398880"/>
              <a:chOff x="7232760" y="3759120"/>
              <a:chExt cx="1734840" cy="398880"/>
            </a:xfrm>
          </p:grpSpPr>
          <p:sp>
            <p:nvSpPr>
              <p:cNvPr id="216" name=""/>
              <p:cNvSpPr/>
              <p:nvPr/>
            </p:nvSpPr>
            <p:spPr>
              <a:xfrm>
                <a:off x="7456320" y="375912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232760" y="3860640"/>
                <a:ext cx="187200" cy="1875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18" name=""/>
            <p:cNvCxnSpPr>
              <a:stCxn id="207" idx="2"/>
              <a:endCxn id="217" idx="2"/>
            </p:cNvCxnSpPr>
            <p:nvPr/>
          </p:nvCxnSpPr>
          <p:spPr>
            <a:xfrm flipH="1" rot="16200000">
              <a:off x="6443280" y="3180240"/>
              <a:ext cx="916920" cy="63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07" idx="2"/>
              <a:endCxn id="214" idx="2"/>
            </p:cNvCxnSpPr>
            <p:nvPr/>
          </p:nvCxnSpPr>
          <p:spPr>
            <a:xfrm flipH="1" rot="16200000">
              <a:off x="6726240" y="2898360"/>
              <a:ext cx="326160" cy="6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0" name=""/>
            <p:cNvSpPr/>
            <p:nvPr/>
          </p:nvSpPr>
          <p:spPr>
            <a:xfrm>
              <a:off x="6604560" y="2025720"/>
              <a:ext cx="180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unit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1080" y="1460520"/>
              <a:ext cx="18892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asure_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1565280"/>
              <a:ext cx="19188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950760" y="1442520"/>
              <a:ext cx="0" cy="3891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stCxn id="205" idx="1"/>
              <a:endCxn id="222" idx="6"/>
            </p:cNvCxnSpPr>
            <p:nvPr/>
          </p:nvCxnSpPr>
          <p:spPr>
            <a:xfrm flipH="1">
              <a:off x="2920320" y="1652400"/>
              <a:ext cx="1896120" cy="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5" name=""/>
            <p:cNvSpPr/>
            <p:nvPr/>
          </p:nvSpPr>
          <p:spPr>
            <a:xfrm>
              <a:off x="2852280" y="1271520"/>
              <a:ext cx="197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lue_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94160" y="177012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1120" y="28972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2619360"/>
              <a:ext cx="2008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520" y="3559320"/>
              <a:ext cx="19987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08520" y="3803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64240" y="4432320"/>
              <a:ext cx="17946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measure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852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26" idx="2"/>
              <a:endCxn id="227" idx="6"/>
            </p:cNvCxnSpPr>
            <p:nvPr/>
          </p:nvCxnSpPr>
          <p:spPr>
            <a:xfrm rot="5400000">
              <a:off x="4639680" y="2284200"/>
              <a:ext cx="1104120" cy="3103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4" name=""/>
            <p:cNvCxnSpPr>
              <a:stCxn id="226" idx="2"/>
              <a:endCxn id="230" idx="6"/>
            </p:cNvCxnSpPr>
            <p:nvPr/>
          </p:nvCxnSpPr>
          <p:spPr>
            <a:xfrm rot="5400000">
              <a:off x="4179960" y="2730960"/>
              <a:ext cx="201060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35" name=""/>
            <p:cNvCxnSpPr>
              <a:stCxn id="226" idx="2"/>
              <a:endCxn id="232" idx="6"/>
            </p:cNvCxnSpPr>
            <p:nvPr/>
          </p:nvCxnSpPr>
          <p:spPr>
            <a:xfrm rot="5400000">
              <a:off x="3724200" y="3186720"/>
              <a:ext cx="2921760" cy="32292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36" name=""/>
            <p:cNvSpPr/>
            <p:nvPr/>
          </p:nvSpPr>
          <p:spPr>
            <a:xfrm>
              <a:off x="5009760" y="245736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620640" y="3479760"/>
              <a:ext cx="1123560" cy="576360"/>
              <a:chOff x="620640" y="3479760"/>
              <a:chExt cx="1123560" cy="576360"/>
            </a:xfrm>
          </p:grpSpPr>
          <p:sp>
            <p:nvSpPr>
              <p:cNvPr id="238" name=""/>
              <p:cNvSpPr/>
              <p:nvPr/>
            </p:nvSpPr>
            <p:spPr>
              <a:xfrm>
                <a:off x="825480" y="3665520"/>
                <a:ext cx="776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RE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0640" y="37893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137960" y="34797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99840" y="3665520"/>
                <a:ext cx="144360" cy="390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2" name=""/>
            <p:cNvCxnSpPr>
              <a:stCxn id="243" idx="2"/>
              <a:endCxn id="240" idx="0"/>
            </p:cNvCxnSpPr>
            <p:nvPr/>
          </p:nvCxnSpPr>
          <p:spPr>
            <a:xfrm>
              <a:off x="1209240" y="3049200"/>
              <a:ext cx="54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44" name=""/>
            <p:cNvGrpSpPr/>
            <p:nvPr/>
          </p:nvGrpSpPr>
          <p:grpSpPr>
            <a:xfrm>
              <a:off x="6042600" y="4599000"/>
              <a:ext cx="1664640" cy="398880"/>
              <a:chOff x="6042600" y="4599000"/>
              <a:chExt cx="1664640" cy="398880"/>
            </a:xfrm>
          </p:grpSpPr>
          <p:sp>
            <p:nvSpPr>
              <p:cNvPr id="245" name=""/>
              <p:cNvSpPr/>
              <p:nvPr/>
            </p:nvSpPr>
            <p:spPr>
              <a:xfrm>
                <a:off x="7520040" y="47167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42600" y="4599000"/>
                <a:ext cx="142596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length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6133320" y="5205240"/>
              <a:ext cx="1573560" cy="398880"/>
              <a:chOff x="6133320" y="5205240"/>
              <a:chExt cx="1573560" cy="398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133320" y="5205240"/>
                <a:ext cx="1342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mass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19680" y="5344920"/>
                <a:ext cx="187200" cy="18720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250680" y="5767560"/>
              <a:ext cx="1456200" cy="398880"/>
              <a:chOff x="6250680" y="5767560"/>
              <a:chExt cx="1456200" cy="398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250680" y="5767560"/>
                <a:ext cx="12124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time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519680" y="5878440"/>
                <a:ext cx="187200" cy="186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53" name=""/>
            <p:cNvCxnSpPr>
              <a:stCxn id="216" idx="2"/>
              <a:endCxn id="245" idx="6"/>
            </p:cNvCxnSpPr>
            <p:nvPr/>
          </p:nvCxnSpPr>
          <p:spPr>
            <a:xfrm rot="5400000">
              <a:off x="7668000" y="4266360"/>
              <a:ext cx="61164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4" name=""/>
            <p:cNvCxnSpPr>
              <a:stCxn id="216" idx="2"/>
              <a:endCxn id="249" idx="6"/>
            </p:cNvCxnSpPr>
            <p:nvPr/>
          </p:nvCxnSpPr>
          <p:spPr>
            <a:xfrm rot="5400000">
              <a:off x="7353360" y="4581000"/>
              <a:ext cx="124056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cxnSp>
          <p:nvCxnSpPr>
            <p:cNvPr id="255" name=""/>
            <p:cNvCxnSpPr>
              <a:stCxn id="216" idx="2"/>
              <a:endCxn id="252" idx="6"/>
            </p:cNvCxnSpPr>
            <p:nvPr/>
          </p:nvCxnSpPr>
          <p:spPr>
            <a:xfrm rot="5400000">
              <a:off x="7086960" y="4847400"/>
              <a:ext cx="1773720" cy="476640"/>
            </a:xfrm>
            <a:prstGeom prst="bentConnector2">
              <a:avLst/>
            </a:prstGeom>
            <a:ln w="76320">
              <a:solidFill>
                <a:srgbClr val="000000"/>
              </a:solidFill>
              <a:miter/>
            </a:ln>
          </p:spPr>
        </p:cxnSp>
        <p:sp>
          <p:nvSpPr>
            <p:cNvPr id="256" name=""/>
            <p:cNvSpPr/>
            <p:nvPr/>
          </p:nvSpPr>
          <p:spPr>
            <a:xfrm>
              <a:off x="7830720" y="4371840"/>
              <a:ext cx="32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98440" y="4064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02400" y="2639880"/>
              <a:ext cx="2002680" cy="368280"/>
              <a:chOff x="302400" y="2639880"/>
              <a:chExt cx="2002680" cy="368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02400" y="2639880"/>
                <a:ext cx="1814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ength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2440" y="277164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422440" y="1746360"/>
              <a:ext cx="21744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1" name=""/>
            <p:cNvCxnSpPr>
              <a:stCxn id="260" idx="2"/>
              <a:endCxn id="259" idx="6"/>
            </p:cNvCxnSpPr>
            <p:nvPr/>
          </p:nvCxnSpPr>
          <p:spPr>
            <a:xfrm rot="5400000">
              <a:off x="1924920" y="2241360"/>
              <a:ext cx="1000800" cy="2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"/>
            <p:cNvCxnSpPr>
              <a:stCxn id="260" idx="2"/>
              <a:endCxn id="263" idx="6"/>
            </p:cNvCxnSpPr>
            <p:nvPr/>
          </p:nvCxnSpPr>
          <p:spPr>
            <a:xfrm rot="5400000">
              <a:off x="986760" y="3193920"/>
              <a:ext cx="2891520" cy="19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"/>
            <p:cNvCxnSpPr>
              <a:stCxn id="260" idx="2"/>
              <a:endCxn id="265" idx="6"/>
            </p:cNvCxnSpPr>
            <p:nvPr/>
          </p:nvCxnSpPr>
          <p:spPr>
            <a:xfrm rot="5400000">
              <a:off x="344160" y="3803040"/>
              <a:ext cx="4143600" cy="23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"/>
            <p:cNvCxnSpPr>
              <a:stCxn id="257" idx="4"/>
              <a:endCxn id="267" idx="0"/>
            </p:cNvCxnSpPr>
            <p:nvPr/>
          </p:nvCxnSpPr>
          <p:spPr>
            <a:xfrm>
              <a:off x="1274400" y="4230720"/>
              <a:ext cx="11880" cy="286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grpSp>
          <p:nvGrpSpPr>
            <p:cNvPr id="268" name=""/>
            <p:cNvGrpSpPr/>
            <p:nvPr/>
          </p:nvGrpSpPr>
          <p:grpSpPr>
            <a:xfrm>
              <a:off x="415800" y="4530600"/>
              <a:ext cx="1903680" cy="368280"/>
              <a:chOff x="415800" y="4530600"/>
              <a:chExt cx="1903680" cy="368280"/>
            </a:xfrm>
          </p:grpSpPr>
          <p:sp>
            <p:nvSpPr>
              <p:cNvPr id="267" name=""/>
              <p:cNvSpPr/>
              <p:nvPr/>
            </p:nvSpPr>
            <p:spPr>
              <a:xfrm>
                <a:off x="415800" y="4530600"/>
                <a:ext cx="173988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mass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66840" y="466236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2760" y="5797440"/>
              <a:ext cx="1803240" cy="368280"/>
              <a:chOff x="482760" y="5797440"/>
              <a:chExt cx="1803240" cy="368280"/>
            </a:xfrm>
          </p:grpSpPr>
          <p:sp>
            <p:nvSpPr>
              <p:cNvPr id="270" name=""/>
              <p:cNvSpPr/>
              <p:nvPr/>
            </p:nvSpPr>
            <p:spPr>
              <a:xfrm>
                <a:off x="482760" y="5797440"/>
                <a:ext cx="1625400" cy="368280"/>
              </a:xfrm>
              <a:prstGeom prst="rect">
                <a:avLst/>
              </a:prstGeom>
              <a:solidFill>
                <a:srgbClr val="fe7550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time_meas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5915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" name=""/>
            <p:cNvCxnSpPr>
              <a:stCxn id="270" idx="1"/>
              <a:endCxn id="239" idx="2"/>
            </p:cNvCxnSpPr>
            <p:nvPr/>
          </p:nvCxnSpPr>
          <p:spPr>
            <a:xfrm flipH="1" rot="10800000">
              <a:off x="449640" y="3864960"/>
              <a:ext cx="156600" cy="2131200"/>
            </a:xfrm>
            <a:prstGeom prst="bentConnector3">
              <a:avLst>
                <a:gd name="adj1" fmla="val -1375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1" name=""/>
            <p:cNvSpPr/>
            <p:nvPr/>
          </p:nvSpPr>
          <p:spPr>
            <a:xfrm>
              <a:off x="6532560" y="1762200"/>
              <a:ext cx="10332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SELECT types: Example 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7160" y="1147680"/>
            <a:ext cx="868032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easure_value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measure_value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length_measure, mass_measur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YPE unit =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derived_unit, 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202 = LENGTH_MEASURE_WITH_UNIT (LENGTH_MEASURE(498.0), #102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     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apping of Supertype /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/ subtype entitie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opulation results in ‘complex entity instances’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wo ‘Mapping Rules’ defin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rnal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ternal mapp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lection depends on which (STEP Part 21) Conformance Class selected (and stated in HEADER section).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1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Internal mapping for single inheritance graphs and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xternal mapping for multiple inheritance graph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Conformance Class 2 sel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Use External mapping for all ‘complex entity instances’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&amp; External Mapp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ly the name of the lowest level subtype shown in physical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in order of inherit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CC (aa, cc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ternal mapp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ll entities in the inheritance graph named in physical file in alphabetical order of the entity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ttributes appear with their parent ent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99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.g. #100 = (AA (aa) BB(bb) CC(cc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upertype-subtypes: Exampl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85840" y="1053720"/>
            <a:ext cx="8572320" cy="524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3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tity definition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named_unit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PERTYPE OF (ONE OF (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mass_unit, time_unit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NDOR (ONEOF (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conversion_based_unit)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</a:rPr>
              <a:t>si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me : si_unit_name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ERIV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ELF\named_unit.dimensions : dimensional_exponents := dimensions_for_si_unit (SELF.name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42040" y="3684600"/>
            <a:ext cx="355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TIT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ength_uni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063520" y="2540160"/>
            <a:ext cx="1128600" cy="111096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99160" y="2239920"/>
            <a:ext cx="2028600" cy="14986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28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28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29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301" idx="3"/>
            <a:endCxn id="29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0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0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1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6" name=""/>
            <p:cNvCxnSpPr>
              <a:stCxn id="305" idx="3"/>
              <a:endCxn id="30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"/>
            <p:cNvCxnSpPr>
              <a:stCxn id="305" idx="2"/>
              <a:endCxn id="31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0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2" name=""/>
          <p:cNvCxnSpPr>
            <a:stCxn id="320" idx="2"/>
            <a:endCxn id="29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20" idx="2"/>
            <a:endCxn id="29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21" idx="2"/>
            <a:endCxn id="29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"/>
          <p:cNvCxnSpPr>
            <a:stCxn id="320" idx="2"/>
            <a:endCxn id="28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30" name=""/>
          <p:cNvCxnSpPr>
            <a:stCxn id="321" idx="2"/>
            <a:endCxn id="30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235080" y="4483080"/>
            <a:ext cx="86389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 in data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LENGTH_UNIT(#102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2 = DIMENSIONAL_EXPONENTS (1.0, 0.0, 0.0, 0.0, 0.0, 0.0, 0.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ternal mapping: Example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86280" y="2433600"/>
            <a:ext cx="160488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03640" y="2550960"/>
            <a:ext cx="1664640" cy="398880"/>
            <a:chOff x="503640" y="2550960"/>
            <a:chExt cx="1664640" cy="398880"/>
          </a:xfrm>
        </p:grpSpPr>
        <p:sp>
          <p:nvSpPr>
            <p:cNvPr id="336" name=""/>
            <p:cNvSpPr/>
            <p:nvPr/>
          </p:nvSpPr>
          <p:spPr>
            <a:xfrm>
              <a:off x="1981080" y="2668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640" y="255096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ength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94720" y="3157560"/>
            <a:ext cx="1573560" cy="398880"/>
            <a:chOff x="594720" y="3157560"/>
            <a:chExt cx="1573560" cy="398880"/>
          </a:xfrm>
        </p:grpSpPr>
        <p:sp>
          <p:nvSpPr>
            <p:cNvPr id="339" name=""/>
            <p:cNvSpPr/>
            <p:nvPr/>
          </p:nvSpPr>
          <p:spPr>
            <a:xfrm>
              <a:off x="594720" y="3157560"/>
              <a:ext cx="1342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as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81080" y="32972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12080" y="3719520"/>
            <a:ext cx="1456200" cy="398880"/>
            <a:chOff x="712080" y="3719520"/>
            <a:chExt cx="1456200" cy="398880"/>
          </a:xfrm>
        </p:grpSpPr>
        <p:sp>
          <p:nvSpPr>
            <p:cNvPr id="342" name=""/>
            <p:cNvSpPr/>
            <p:nvPr/>
          </p:nvSpPr>
          <p:spPr>
            <a:xfrm>
              <a:off x="712080" y="3719520"/>
              <a:ext cx="1212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ime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1080" y="38307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4427280" y="3719520"/>
            <a:ext cx="28036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8656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28160" y="36100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7256520" y="397836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142120" y="38941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45000" y="134928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51" idx="3"/>
            <a:endCxn id="349" idx="2"/>
          </p:cNvCxnSpPr>
          <p:nvPr/>
        </p:nvCxnSpPr>
        <p:spPr>
          <a:xfrm>
            <a:off x="3903840" y="1420560"/>
            <a:ext cx="152784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4022640" y="107172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23920" y="120816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191120" y="2384280"/>
            <a:ext cx="4004280" cy="1009440"/>
            <a:chOff x="4191120" y="2384280"/>
            <a:chExt cx="4004280" cy="1009440"/>
          </a:xfrm>
        </p:grpSpPr>
        <p:sp>
          <p:nvSpPr>
            <p:cNvPr id="355" name=""/>
            <p:cNvSpPr/>
            <p:nvPr/>
          </p:nvSpPr>
          <p:spPr>
            <a:xfrm>
              <a:off x="4431600" y="255096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1120" y="271116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67760" y="238428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6438960" y="2516040"/>
              <a:ext cx="1756440" cy="374400"/>
              <a:chOff x="6438960" y="2516040"/>
              <a:chExt cx="1756440" cy="374400"/>
            </a:xfrm>
          </p:grpSpPr>
          <p:sp>
            <p:nvSpPr>
              <p:cNvPr id="359" name=""/>
              <p:cNvSpPr/>
              <p:nvPr/>
            </p:nvSpPr>
            <p:spPr>
              <a:xfrm>
                <a:off x="6438960" y="26683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595920" y="251928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097120" y="251604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53000" y="3018960"/>
              <a:ext cx="1339200" cy="374760"/>
              <a:chOff x="6453000" y="3018960"/>
              <a:chExt cx="1339200" cy="374760"/>
            </a:xfrm>
          </p:grpSpPr>
          <p:sp>
            <p:nvSpPr>
              <p:cNvPr id="363" name=""/>
              <p:cNvSpPr/>
              <p:nvPr/>
            </p:nvSpPr>
            <p:spPr>
              <a:xfrm>
                <a:off x="6453000" y="3157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609960" y="302256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7694280" y="3018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66" name=""/>
            <p:cNvCxnSpPr>
              <a:stCxn id="355" idx="3"/>
              <a:endCxn id="359" idx="2"/>
            </p:cNvCxnSpPr>
            <p:nvPr/>
          </p:nvCxnSpPr>
          <p:spPr>
            <a:xfrm flipV="1">
              <a:off x="5378040" y="274392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7" name=""/>
            <p:cNvCxnSpPr>
              <a:stCxn id="355" idx="2"/>
              <a:endCxn id="363" idx="2"/>
            </p:cNvCxnSpPr>
            <p:nvPr/>
          </p:nvCxnSpPr>
          <p:spPr>
            <a:xfrm flipH="1" rot="16200000">
              <a:off x="5542560" y="233820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68" name=""/>
            <p:cNvSpPr/>
            <p:nvPr/>
          </p:nvSpPr>
          <p:spPr>
            <a:xfrm>
              <a:off x="5567400" y="287496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363760" y="1208160"/>
            <a:ext cx="1511280" cy="411120"/>
            <a:chOff x="2363760" y="1208160"/>
            <a:chExt cx="1511280" cy="411120"/>
          </a:xfrm>
        </p:grpSpPr>
        <p:sp>
          <p:nvSpPr>
            <p:cNvPr id="351" name=""/>
            <p:cNvSpPr/>
            <p:nvPr/>
          </p:nvSpPr>
          <p:spPr>
            <a:xfrm>
              <a:off x="2363760" y="1208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9552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78400" y="1531800"/>
              <a:ext cx="10152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70" idx="2"/>
            <a:endCxn id="340" idx="6"/>
          </p:cNvCxnSpPr>
          <p:nvPr/>
        </p:nvCxnSpPr>
        <p:spPr>
          <a:xfrm rot="5400000">
            <a:off x="1485360" y="2330280"/>
            <a:ext cx="177228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70" idx="2"/>
            <a:endCxn id="343" idx="6"/>
          </p:cNvCxnSpPr>
          <p:nvPr/>
        </p:nvCxnSpPr>
        <p:spPr>
          <a:xfrm rot="5400000">
            <a:off x="1218600" y="2596680"/>
            <a:ext cx="2305440" cy="349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71" idx="2"/>
            <a:endCxn id="345" idx="2"/>
          </p:cNvCxnSpPr>
          <p:nvPr/>
        </p:nvCxnSpPr>
        <p:spPr>
          <a:xfrm flipH="1" rot="16200000">
            <a:off x="2724840" y="2522520"/>
            <a:ext cx="2340360" cy="533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220644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79560" y="22384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7520" y="2363760"/>
            <a:ext cx="1922400" cy="723960"/>
          </a:xfrm>
          <a:prstGeom prst="rect">
            <a:avLst/>
          </a:pr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20500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0" idx="2"/>
            <a:endCxn id="336" idx="6"/>
          </p:cNvCxnSpPr>
          <p:nvPr/>
        </p:nvCxnSpPr>
        <p:spPr>
          <a:xfrm rot="5400000">
            <a:off x="1799640" y="2016000"/>
            <a:ext cx="1143720" cy="34992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cxnSp>
        <p:nvCxnSpPr>
          <p:cNvPr id="380" name=""/>
          <p:cNvCxnSpPr>
            <a:stCxn id="371" idx="2"/>
            <a:endCxn id="356" idx="2"/>
          </p:cNvCxnSpPr>
          <p:nvPr/>
        </p:nvCxnSpPr>
        <p:spPr>
          <a:xfrm flipH="1" rot="16200000">
            <a:off x="3301920" y="1945440"/>
            <a:ext cx="1186560" cy="533880"/>
          </a:xfrm>
          <a:prstGeom prst="bentConnector2">
            <a:avLst/>
          </a:prstGeom>
          <a:ln w="76320">
            <a:solidFill>
              <a:srgbClr val="ff3300"/>
            </a:solidFill>
            <a:miter/>
          </a:ln>
        </p:spPr>
      </p:cxnSp>
      <p:sp>
        <p:nvSpPr>
          <p:cNvPr id="381" name=""/>
          <p:cNvSpPr/>
          <p:nvPr/>
        </p:nvSpPr>
        <p:spPr>
          <a:xfrm flipV="1">
            <a:off x="3968640" y="1728720"/>
            <a:ext cx="0" cy="565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83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defined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pertype attributes redefined in a subtype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spcAft>
                <a:spcPts val="1100"/>
              </a:spcAft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subtype entity redefines an attribute of its supertype using the DERIVE clause, that attribute in the supertype shall be encoded with an asterisk “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5080" y="4518000"/>
            <a:ext cx="86389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ample entity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/* Length Unit (mm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0 = SI_UNIT (*, 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#1021 = (LENGTH_UNIT() NAMED_UNIT(*) SI_UNIT(.MILLI., .METRE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576160" y="4456080"/>
            <a:ext cx="6323760" cy="1239840"/>
            <a:chOff x="2576160" y="4456080"/>
            <a:chExt cx="6323760" cy="1239840"/>
          </a:xfrm>
        </p:grpSpPr>
        <p:sp>
          <p:nvSpPr>
            <p:cNvPr id="390" name=""/>
            <p:cNvSpPr/>
            <p:nvPr/>
          </p:nvSpPr>
          <p:spPr>
            <a:xfrm>
              <a:off x="5941080" y="445608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00"/>
                  </a:solidFill>
                  <a:latin typeface="Arial"/>
                </a:rPr>
                <a:t>Redefined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5238720" y="4832280"/>
              <a:ext cx="8128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576160" y="4689360"/>
              <a:ext cx="3422520" cy="72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9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7840" y="3076200"/>
            <a:ext cx="8518680" cy="32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Header &amp; Data Section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559440" indent="-559440"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pping from EXPRES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395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398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0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04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07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11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3330360"/>
            <a:ext cx="853452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9200" y="511488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steel-sci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2200" y="274320"/>
            <a:ext cx="55562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lated Web Si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4138560" y="3637080"/>
            <a:ext cx="4906800" cy="973080"/>
            <a:chOff x="4138560" y="3637080"/>
            <a:chExt cx="4906800" cy="973080"/>
          </a:xfrm>
        </p:grpSpPr>
        <p:pic>
          <p:nvPicPr>
            <p:cNvPr id="418" name="Logo" descr=""/>
            <p:cNvPicPr/>
            <p:nvPr/>
          </p:nvPicPr>
          <p:blipFill>
            <a:blip r:embed="rId2"/>
            <a:stretch/>
          </p:blipFill>
          <p:spPr>
            <a:xfrm>
              <a:off x="4138560" y="3637080"/>
              <a:ext cx="1487520" cy="9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207040" y="3925800"/>
              <a:ext cx="38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Univers"/>
                </a:rPr>
                <a:t>The Steel Construction Instit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093680" y="144468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684440" y="1635120"/>
            <a:ext cx="134280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60840" y="16747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About 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1440" y="14763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12200" y="1666800"/>
            <a:ext cx="93348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2480" y="170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02080" y="247176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092480" y="2662200"/>
            <a:ext cx="11811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231800" y="27018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xpert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0200" y="2548080"/>
            <a:ext cx="618840" cy="61884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0600" y="2738520"/>
            <a:ext cx="16257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05800" y="27781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Memb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61040" y="27018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51800" y="2892600"/>
            <a:ext cx="147636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92920" y="2932200"/>
            <a:ext cx="17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Courses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   </a:t>
            </a: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2200" y="3630600"/>
            <a:ext cx="619200" cy="619200"/>
          </a:xfrm>
          <a:prstGeom prst="ellipse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2960" y="3821040"/>
            <a:ext cx="1358640" cy="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9400" y="386064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Univers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9200" y="5943600"/>
            <a:ext cx="8534520" cy="6350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www.cis2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770520" y="328680"/>
            <a:ext cx="2100600" cy="59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0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Requirements of CIS/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 file exchange, CIS/2 specifies tha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hysical file format shall be in accordance with ISO 10303-21: 199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vember 1994 International Standard issue together with the 1996 'Technical Corrigendum'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 Methods: ‘Clear text encoding of the exchange structure’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Exchange Structu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quential file using a clear text encoding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escribed by an unambiguous, context-free grammar to facilitate parsing by softwar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rammar is expressed in Wirth Syntax Not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ists of two sections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eader s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data relating to the exchange structure itself, and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ata sectio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oviding the data to be transferred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pecial Toke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SO-10303-21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an exchange structur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EADER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header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ATA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open the data section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s used to close both sec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ND-ISO-10303-21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close an exchange structure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chema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7680" y="12222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header_section_schema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description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: LIST [1:?] OF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mplementation_level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nam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ime_stamp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ganization: LIST [1:?] OF STRING (256)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reprocessor_vers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originating_system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uthorization: STRING (25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24800" y="3929040"/>
            <a:ext cx="446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file_sche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_identifier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LIST [1:1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chema_nam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TRING (102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Header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Populated Header S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ER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DESCRIPTION (('Test case 1'),'1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NAME ('testcase1.stp', '1999-05-19T12:16:30', ('A.J.Crowley'), ('Steel Construction Institute'), '1.5.1 (compiled 17:44 11/24/1998)', 'NIST EXPRESSO', 'ajc'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E_SCHEMA ((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'STRUCTURAL_FRAME_SCHEMA'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))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ENDSEC;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39320"/>
            <a:ext cx="853416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Data Se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106280"/>
            <a:ext cx="8572320" cy="506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tains instances of entities that correspond to the EXPRESS schema governing the exchange structure in the header section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x simple data types are used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TITY instance name (i.e. the # number)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UMERATION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24T17:58:41Z</dcterms:modified>
  <cp:revision>86</cp:revision>
  <dc:subject/>
  <dc:title>No Slide Title</dc:title>
</cp:coreProperties>
</file>